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710-DD00-4E64-89A9-5802897D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9C3-494A-4741-8A18-D7BBAB52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257-BD48-4BEC-84D2-BA5D6933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704-058C-4F8D-9EB0-38006459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66A-93C2-4C70-BC24-EAD08C4B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35B-7D92-4BEB-BA79-8638BB0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DB2-4564-4080-9293-A5522F0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52E-BE82-4147-B2AC-3AACE84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C09-6FCA-4CDD-AB49-D1D76464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E47-D169-4D8C-8C79-DA56BA5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381-744E-4BF0-BC39-E179957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FFC-C19F-4600-8DF1-9C27BDC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70BC-CC30-4B86-9D7E-B8ECDDE96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257,2,&#1055;&#1088;&#1072;&#1074;&#1080;&#1083;&#1072; &#1088;&#1072;&#1073;&#1086;&#1090;&#1099; &#1074; &#1082;&#1072;&#1073;&#1080;&#1085;&#1077;&#1090;&#1077; &#1093;&#1080;&#1084;&#1080;&#1080;." TargetMode="External"/><Relationship Id="rId2" Type="http://schemas.openxmlformats.org/officeDocument/2006/relationships/hyperlink" Target="258,3,&#1055;&#1088;&#1072;&#1074;&#1080;&#1083;&#1072; &#1088;&#1072;&#1073;&#1086;&#1090;&#1099; &#1089; &#1082;&#1080;&#1089;&#1083;&#1086;&#1090;&#1072;&#1084;&#1080;" TargetMode="External"/><Relationship Id="rId3" Type="http://schemas.openxmlformats.org/officeDocument/2006/relationships/hyperlink" Target="259,4,&#1055;&#1088;&#1072;&#1074;&#1080;&#1083;&#1072; &#1088;&#1072;&#1073;&#1086;&#1090;&#1099; &#1089;&#1086; &#1097;&#1077;&#1083;&#1086;&#1095;&#1072;&#1084;&#1080;.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поведения на уроках хим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авила поведения на практических рабо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авила работы  с кисл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авила работы со щелоч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работы в кабинете хи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ходить в класс без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льзя пробовать химические вещества на вк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слушать инструктаж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92720" y="2892600"/>
            <a:ext cx="3527280" cy="248760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7956720" y="6237360"/>
            <a:ext cx="71280" cy="712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7164360" y="6237360"/>
            <a:ext cx="863640" cy="620640"/>
          </a:xfrm>
          <a:custGeom>
            <a:avLst/>
            <a:gdLst>
              <a:gd name="textAreaLeft" fmla="*/ 39960 w 863640"/>
              <a:gd name="textAreaRight" fmla="*/ 823680 w 863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0052" h="21600">
                <a:moveTo>
                  <a:pt x="0" y="0"/>
                </a:moveTo>
                <a:lnTo>
                  <a:pt x="30052" y="0"/>
                </a:lnTo>
                <a:lnTo>
                  <a:pt x="30052" y="21600"/>
                </a:lnTo>
                <a:lnTo>
                  <a:pt x="0" y="21600"/>
                </a:lnTo>
                <a:close/>
              </a:path>
              <a:path fill="lightenLess" w="30052" h="21600">
                <a:moveTo>
                  <a:pt x="0" y="0"/>
                </a:moveTo>
                <a:lnTo>
                  <a:pt x="30052" y="0"/>
                </a:lnTo>
                <a:lnTo>
                  <a:pt x="28652" y="1400"/>
                </a:lnTo>
                <a:lnTo>
                  <a:pt x="1400" y="1400"/>
                </a:lnTo>
                <a:close/>
              </a:path>
              <a:path fill="darken" w="30052" h="21600">
                <a:moveTo>
                  <a:pt x="30052" y="0"/>
                </a:moveTo>
                <a:lnTo>
                  <a:pt x="30052" y="21600"/>
                </a:lnTo>
                <a:lnTo>
                  <a:pt x="28652" y="20200"/>
                </a:lnTo>
                <a:lnTo>
                  <a:pt x="28652" y="1400"/>
                </a:lnTo>
                <a:close/>
              </a:path>
              <a:path fill="darkenLess" w="30052" h="21600">
                <a:moveTo>
                  <a:pt x="30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52" y="20200"/>
                </a:lnTo>
                <a:close/>
              </a:path>
              <a:path fill="lighten" w="30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52" h="21600">
                <a:moveTo>
                  <a:pt x="15026" y="3837"/>
                </a:moveTo>
                <a:lnTo>
                  <a:pt x="17602" y="6448"/>
                </a:lnTo>
                <a:lnTo>
                  <a:pt x="17602" y="4707"/>
                </a:lnTo>
                <a:lnTo>
                  <a:pt x="19378" y="4707"/>
                </a:lnTo>
                <a:lnTo>
                  <a:pt x="19378" y="8224"/>
                </a:lnTo>
                <a:lnTo>
                  <a:pt x="21989" y="10800"/>
                </a:lnTo>
                <a:lnTo>
                  <a:pt x="20335" y="10800"/>
                </a:lnTo>
                <a:lnTo>
                  <a:pt x="20335" y="17989"/>
                </a:lnTo>
                <a:lnTo>
                  <a:pt x="9717" y="17989"/>
                </a:lnTo>
                <a:lnTo>
                  <a:pt x="9717" y="10800"/>
                </a:lnTo>
                <a:lnTo>
                  <a:pt x="8063" y="10800"/>
                </a:lnTo>
                <a:close/>
              </a:path>
              <a:path fill="darkenLess" w="30052" h="21600">
                <a:moveTo>
                  <a:pt x="17602" y="6448"/>
                </a:moveTo>
                <a:lnTo>
                  <a:pt x="17602" y="4707"/>
                </a:lnTo>
                <a:lnTo>
                  <a:pt x="19378" y="4707"/>
                </a:lnTo>
                <a:lnTo>
                  <a:pt x="19378" y="8224"/>
                </a:lnTo>
                <a:close/>
              </a:path>
              <a:path fill="darkenLess" w="30052" h="21600">
                <a:moveTo>
                  <a:pt x="14103" y="14299"/>
                </a:moveTo>
                <a:lnTo>
                  <a:pt x="15949" y="14299"/>
                </a:lnTo>
                <a:lnTo>
                  <a:pt x="15949" y="17989"/>
                </a:lnTo>
                <a:lnTo>
                  <a:pt x="20335" y="17989"/>
                </a:lnTo>
                <a:lnTo>
                  <a:pt x="20335" y="10800"/>
                </a:lnTo>
                <a:lnTo>
                  <a:pt x="9717" y="10800"/>
                </a:lnTo>
                <a:lnTo>
                  <a:pt x="9717" y="17989"/>
                </a:lnTo>
                <a:lnTo>
                  <a:pt x="1410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работы с кисло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с кислотами только в перча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падании кислоты на кожу смыть ее большим количеством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ботать кожу раствором с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2055960"/>
            <a:ext cx="3006720" cy="331776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7164360" y="551664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11873" y="3837"/>
                </a:moveTo>
                <a:lnTo>
                  <a:pt x="14449" y="6448"/>
                </a:ln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lnTo>
                  <a:pt x="18836" y="10800"/>
                </a:lnTo>
                <a:lnTo>
                  <a:pt x="17182" y="10800"/>
                </a:lnTo>
                <a:lnTo>
                  <a:pt x="17182" y="17989"/>
                </a:lnTo>
                <a:lnTo>
                  <a:pt x="6564" y="17989"/>
                </a:lnTo>
                <a:lnTo>
                  <a:pt x="6564" y="10800"/>
                </a:lnTo>
                <a:lnTo>
                  <a:pt x="4910" y="10800"/>
                </a:lnTo>
                <a:close/>
              </a:path>
              <a:path fill="darkenLess" w="23746" h="21600">
                <a:moveTo>
                  <a:pt x="14449" y="6448"/>
                </a:move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close/>
              </a:path>
              <a:path fill="darkenLess" w="23746" h="21600">
                <a:moveTo>
                  <a:pt x="10950" y="14299"/>
                </a:moveTo>
                <a:lnTo>
                  <a:pt x="12796" y="14299"/>
                </a:lnTo>
                <a:lnTo>
                  <a:pt x="12796" y="17989"/>
                </a:lnTo>
                <a:lnTo>
                  <a:pt x="17182" y="17989"/>
                </a:lnTo>
                <a:lnTo>
                  <a:pt x="17182" y="10800"/>
                </a:lnTo>
                <a:lnTo>
                  <a:pt x="6564" y="10800"/>
                </a:lnTo>
                <a:lnTo>
                  <a:pt x="6564" y="17989"/>
                </a:lnTo>
                <a:lnTo>
                  <a:pt x="1095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работы со щелоч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со щелочами только в перча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опускать попадания щелочи на к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падании на кожу смыть большим количеством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11840" y="2852640"/>
            <a:ext cx="1308240" cy="15433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5364000" y="5445000"/>
            <a:ext cx="1656000" cy="936720"/>
          </a:xfrm>
          <a:custGeom>
            <a:avLst/>
            <a:gdLst>
              <a:gd name="textAreaLeft" fmla="*/ 60480 w 1656000"/>
              <a:gd name="textAreaRight" fmla="*/ 1595520 w 1656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80" h="21600">
                <a:moveTo>
                  <a:pt x="0" y="0"/>
                </a:moveTo>
                <a:lnTo>
                  <a:pt x="38180" y="0"/>
                </a:lnTo>
                <a:lnTo>
                  <a:pt x="38180" y="21600"/>
                </a:lnTo>
                <a:lnTo>
                  <a:pt x="0" y="21600"/>
                </a:lnTo>
                <a:close/>
              </a:path>
              <a:path fill="lightenLess" w="38180" h="21600">
                <a:moveTo>
                  <a:pt x="0" y="0"/>
                </a:moveTo>
                <a:lnTo>
                  <a:pt x="38180" y="0"/>
                </a:lnTo>
                <a:lnTo>
                  <a:pt x="36780" y="1400"/>
                </a:lnTo>
                <a:lnTo>
                  <a:pt x="1400" y="1400"/>
                </a:lnTo>
                <a:close/>
              </a:path>
              <a:path fill="darken" w="38180" h="21600">
                <a:moveTo>
                  <a:pt x="38180" y="0"/>
                </a:moveTo>
                <a:lnTo>
                  <a:pt x="38180" y="21600"/>
                </a:lnTo>
                <a:lnTo>
                  <a:pt x="36780" y="20200"/>
                </a:lnTo>
                <a:lnTo>
                  <a:pt x="36780" y="1400"/>
                </a:lnTo>
                <a:close/>
              </a:path>
              <a:path fill="darkenLess" w="38180" h="21600">
                <a:moveTo>
                  <a:pt x="38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80" y="20200"/>
                </a:lnTo>
                <a:close/>
              </a:path>
              <a:path fill="lighten" w="38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80" h="21600">
                <a:moveTo>
                  <a:pt x="19090" y="3837"/>
                </a:moveTo>
                <a:lnTo>
                  <a:pt x="21666" y="6448"/>
                </a:lnTo>
                <a:lnTo>
                  <a:pt x="21666" y="4707"/>
                </a:lnTo>
                <a:lnTo>
                  <a:pt x="23442" y="4707"/>
                </a:lnTo>
                <a:lnTo>
                  <a:pt x="23442" y="8224"/>
                </a:lnTo>
                <a:lnTo>
                  <a:pt x="26053" y="10800"/>
                </a:lnTo>
                <a:lnTo>
                  <a:pt x="24399" y="10800"/>
                </a:lnTo>
                <a:lnTo>
                  <a:pt x="24399" y="17989"/>
                </a:lnTo>
                <a:lnTo>
                  <a:pt x="13781" y="17989"/>
                </a:lnTo>
                <a:lnTo>
                  <a:pt x="13781" y="10800"/>
                </a:lnTo>
                <a:lnTo>
                  <a:pt x="12127" y="10800"/>
                </a:lnTo>
                <a:close/>
              </a:path>
              <a:path fill="darkenLess" w="38180" h="21600">
                <a:moveTo>
                  <a:pt x="21666" y="6448"/>
                </a:moveTo>
                <a:lnTo>
                  <a:pt x="21666" y="4707"/>
                </a:lnTo>
                <a:lnTo>
                  <a:pt x="23442" y="4707"/>
                </a:lnTo>
                <a:lnTo>
                  <a:pt x="23442" y="8224"/>
                </a:lnTo>
                <a:close/>
              </a:path>
              <a:path fill="darkenLess" w="38180" h="21600">
                <a:moveTo>
                  <a:pt x="18167" y="14299"/>
                </a:moveTo>
                <a:lnTo>
                  <a:pt x="20012" y="14299"/>
                </a:lnTo>
                <a:lnTo>
                  <a:pt x="20012" y="17989"/>
                </a:lnTo>
                <a:lnTo>
                  <a:pt x="24399" y="17989"/>
                </a:lnTo>
                <a:lnTo>
                  <a:pt x="24399" y="10800"/>
                </a:lnTo>
                <a:lnTo>
                  <a:pt x="13781" y="10800"/>
                </a:lnTo>
                <a:lnTo>
                  <a:pt x="13781" y="17989"/>
                </a:lnTo>
                <a:lnTo>
                  <a:pt x="1816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го соблюдайте прави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аю успех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6:13:40Z</dcterms:created>
  <dc:creator>User</dc:creator>
  <dc:description/>
  <dc:language>en-US</dc:language>
  <cp:lastModifiedBy>User</cp:lastModifiedBy>
  <dcterms:modified xsi:type="dcterms:W3CDTF">2011-05-15T08:00:13Z</dcterms:modified>
  <cp:revision>13</cp:revision>
  <dc:subject/>
  <dc:title>Слайд 1</dc:title>
</cp:coreProperties>
</file>