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F07-0723-43FF-B88C-3E6FE54C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0FD-FDE6-45D4-ACB2-69E887DE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300-3155-4226-9065-EF3AD398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A6B-E948-4B19-BB4D-C16ABE6F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D6C-2B2C-404D-B321-A00E3B8D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327-22EF-42DF-8574-44B7EE3F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A3F-F957-4E62-A909-E6A384E6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BE8-D990-40CB-87A1-F666D71C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B30-F294-417D-B3EB-ABCD7E75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69B-7297-451D-A982-D512E42B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27C-951D-44FC-9677-8937D73C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789-238A-4B16-9176-8F54DDE0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D1EB-707C-4FCC-9B2F-0705C9A5D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33360"/>
            <a:ext cx="7775280" cy="9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лан действ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рочкина Марина Федоро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Школа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им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льние 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подх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, развить интерес школьников к хи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32227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жние ц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менить методику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е мотивировать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ощрять деятельность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52960" y="3443400"/>
            <a:ext cx="250668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дагогические методы и задач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вать ученикам конкретные и интересные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ировать работу в групп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мулировать самостоятельную работу уче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32720" y="328464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удности и реш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т обору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и не одобрят мо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ники не поддержат мои инициат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титься к директ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яснить свои цели род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ь материал готовит на компьют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ощь колл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кстовый редактор, электронные таблицы, мультимеди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62760" y="1989000"/>
            <a:ext cx="23968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-граф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нтябрь октябрь ноябрь дека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строить свою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 опыт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ит план для дальнейшей работы.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15040" y="1916280"/>
            <a:ext cx="21020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7:46:40Z</dcterms:created>
  <dc:creator>User</dc:creator>
  <dc:description/>
  <dc:language>en-US</dc:language>
  <cp:lastModifiedBy>User</cp:lastModifiedBy>
  <dcterms:modified xsi:type="dcterms:W3CDTF">2011-05-15T18:29:01Z</dcterms:modified>
  <cp:revision>10</cp:revision>
  <dc:subject/>
  <dc:title>Слайд 1</dc:title>
</cp:coreProperties>
</file>