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513-41D3-4BD3-A84C-A6E7EE09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DD7-EF69-4116-B737-0B32B08C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B87-9B67-4248-9A14-05E4C8F9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0BD-BB61-4A94-860C-BE9EDC81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41C-1073-4747-9354-3CC458E1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139-B176-454B-8A69-A2952E02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44C-61B5-47E5-AE54-C5B007B1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988-30C5-4743-847E-7FAEE8C7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4B1C-1B26-4D08-B989-37BBE7C8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696-9672-47C2-A53A-3567C73A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514-D2DC-41A4-8889-B2B3DED4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4DA-416A-4362-BD0F-D74AC6A8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2C44-AE17-4CFB-B94D-EFE348302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здальская средняя  общеобразовательная ш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чкина Марина Федоровна  8-10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инет2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тябрь-июнь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клас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рганическая химия- изучает основные понятия  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24560" y="307656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рганическая химия – изучает свойства неорганически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15000" y="3191040"/>
            <a:ext cx="1905120" cy="1342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ческая химия – изучает  строение и свойства органических вещ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3600360" cy="2976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мия – повторение и обобщение знаний по 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43680" y="27194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аю успеха в этом учебном год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надеюсь на интересную работу с каждым из Вас  в этом учебном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04:29:23Z</dcterms:created>
  <dc:creator>User</dc:creator>
  <dc:description/>
  <dc:language>en-US</dc:language>
  <cp:lastModifiedBy>User</cp:lastModifiedBy>
  <dcterms:modified xsi:type="dcterms:W3CDTF">2011-05-15T06:01:42Z</dcterms:modified>
  <cp:revision>7</cp:revision>
  <dc:subject/>
  <dc:title>Слайд 1</dc:title>
</cp:coreProperties>
</file>